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E1EC-677C-4751-9A36-ACEAD94B3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2D97-D746-4429-994E-1EDAE0C93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0297-7D52-4CA8-AF28-AD31D9DE8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8CE4-E1B9-4732-8CAC-404B30191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D12A-D2D7-48F0-85FB-2406C29DF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9AC5-F926-46E0-8E93-C123639C0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B641-78F2-44ED-B7E1-554CB2B98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91DD-6FBE-42DD-982B-BFE250DD9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8832-D5FC-4C5D-8284-BBA89155F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3BEC-1DE8-426B-B0C5-1AFA086EA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6C1D-27CA-47D9-BE7E-B89F82CEE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D885-AFCA-4805-995E-07C479C62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EB8D4-5F43-4152-80EB-5E9B8FAB7400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cristobal-colon.wikispaces.com/Nuestras+obras+de+arte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5905440" cy="35575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"/>
          <p:cNvPicPr/>
          <p:nvPr/>
        </p:nvPicPr>
        <p:blipFill>
          <a:blip r:embed="rId2"/>
          <a:stretch/>
        </p:blipFill>
        <p:spPr>
          <a:xfrm>
            <a:off x="1763640" y="3733920"/>
            <a:ext cx="5219640" cy="3124080"/>
          </a:xfrm>
          <a:prstGeom prst="rect">
            <a:avLst/>
          </a:prstGeom>
          <a:ln w="0">
            <a:noFill/>
          </a:ln>
        </p:spPr>
      </p:pic>
      <p:sp>
        <p:nvSpPr>
          <p:cNvPr id="43" name="3 CuadroTexto"/>
          <p:cNvSpPr/>
          <p:nvPr/>
        </p:nvSpPr>
        <p:spPr>
          <a:xfrm>
            <a:off x="4932360" y="270828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Presentamos nuestras creacion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19:16:47Z</dcterms:created>
  <dc:creator>Mari</dc:creator>
  <dc:description/>
  <dc:language>en-US</dc:language>
  <cp:lastModifiedBy>Mari</cp:lastModifiedBy>
  <dcterms:modified xsi:type="dcterms:W3CDTF">2015-04-21T19:22:35Z</dcterms:modified>
  <cp:revision>1</cp:revision>
  <dc:subject/>
  <dc:title>Diapositiva 1</dc:title>
</cp:coreProperties>
</file>